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1941-E639-41DB-B41B-1AEB6321F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AA52-0961-4D13-A9FC-22F99BBB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0890-8588-4B72-B26C-756BEB6F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1809-1B91-4204-9CAD-ABC39C1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6088-8C99-42A8-A846-2B080FAC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4971-E4FC-41F8-AAAA-4B2CE887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51EC-2FC2-4C74-B1A9-39D25C71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E630-77CE-4D34-8529-F9431964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8907-2404-46D3-9319-2CEC6386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A217-8CF4-404A-9D75-E8AB205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1D46-8699-4D3C-8F1C-2EEAEF8C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13E4-2849-49B1-A588-8D115581F4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 Programmeerimine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: 1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2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loeng 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5B526606-7DA6-433F-AD22-46CD13059F84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5B1F-9EC1-4ACC-A85F-81DB3D087EC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sellist seisude puud kasutada?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ldame lihtsalt, 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sin tahab teha käiku, mis annab kõige suurema headuse numbriga se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stane tahab teha käiku, mis annab kõige väiksema headuse numbriga se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eg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gast seisust valib masin käigu, mis on maksimum-headusega (masi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gast seisust valib vastane käigu, mis on miinimum-headusega (masi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e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atame käikude puud sügavuseni N (näiteks N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õige alumistel seisudel arvutame lihtsalt headuse vä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ejärel “tõstame” headuse numbreid ülespoo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inimax algoritm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53640" cy="426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7320" y="5462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ata lisaks linki ja dem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ocf.berkeley.edu/~yosenl/extras/alphabeta/alphabeta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 heaks programmi saab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ida sügavamat puud masin läbi jõuab vaadata, seda täpsemini ta käiku oskab vali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uu läheb kiiresti väga suurek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ales ca 30 käiku ühes seis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Esimesel tasemel käik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Teisel tasemel käike 30*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olmandal tasemel käike 30*30*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-ndal tasemel käike 30 astmes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iiekümnendal  tasemel oleks käike ca 30 astmes 50. See on rohkem, kui elementaarosakesi universumi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42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Umbes nii: teadmised ja kiirus ja mängu headus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4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9" name="perfcurves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81880" cy="4948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8080" y="4876920"/>
            <a:ext cx="10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c0000"/>
                </a:solidFill>
                <a:latin typeface="Times New Roman"/>
              </a:rPr>
              <a:t>Se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c0000"/>
                </a:solidFill>
                <a:latin typeface="Times New Roman"/>
              </a:rPr>
              <a:t>hind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c0000"/>
                </a:solidFill>
                <a:latin typeface="Times New Roman"/>
              </a:rPr>
              <a:t>hea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6095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c0000"/>
                </a:solidFill>
                <a:latin typeface="Times New Roman"/>
              </a:rPr>
              <a:t>Kui suure puu jõuab läbi va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programmi parandad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i ole ühte head lahendust. On palju erinevaid nõks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Näitek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eme seisu hindaja paremaks (programmi “targemaks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ga siis läheb ta aeglasemaks 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ega jõuame vähem käike läbi vaa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namik nõkse on seotud käikude puu vähendamisega: ei ole vaja kogu puud läbi vaa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55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aiuti vs sügavuti ot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aks võimalu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tsime puu läbi kiht-kih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tsime puu läbi sügavuti, minnes algul vasakul maksimaalse sügavus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listatakse sügavuti otsingu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älu vaja palju vä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uud eelised 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60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276720" cy="1714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3276720" cy="171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895480"/>
            <a:ext cx="2362320" cy="457200"/>
          </a:xfrm>
          <a:prstGeom prst="flowChartAlternateProcess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505320"/>
            <a:ext cx="3276720" cy="609480"/>
          </a:xfrm>
          <a:prstGeom prst="flowChartAlternateProcess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24120" y="4724280"/>
            <a:ext cx="685800" cy="381240"/>
          </a:xfrm>
          <a:prstGeom prst="line">
            <a:avLst/>
          </a:prstGeom>
          <a:ln w="255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91320" y="5334120"/>
            <a:ext cx="457200" cy="685800"/>
          </a:xfrm>
          <a:prstGeom prst="line">
            <a:avLst/>
          </a:prstGeom>
          <a:ln w="255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400800" y="5562720"/>
            <a:ext cx="76320" cy="533160"/>
          </a:xfrm>
          <a:prstGeom prst="line">
            <a:avLst/>
          </a:prstGeom>
          <a:ln w="255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1523880"/>
            <a:ext cx="1066680" cy="76212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362320"/>
            <a:ext cx="2210040" cy="220968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oodinäiteid: rekursiivne minimax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nt minimax(position p, int d)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ruct move list[MAXMOVES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nt i,n,bestvalue,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checkwin(p)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 (p.color==WHITE) return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else return 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d==0)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return evaluation(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position.color==WHITE) bestvalue=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else bestvalue=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n=makemovelist(p,li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n==0) return handlenomove(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for(i=0;i&lt;n;i++)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domove(list[i],&amp;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value=minimax(p,d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undomove(list[i],&amp;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position.color==WHIT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bestvalue=max(value,bestvalu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bestvalue=min(value,bestvalu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return best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Üks esimesi universaalseid meetodeid: alpha-beta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838080" y="2362320"/>
          <a:ext cx="83059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8305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oodinäiteid: rekursiivsed negamax ja alpha-be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10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t NegaMax (pos, dept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depth == 0) return Evaluate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est =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ucc = Successors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not Empty(succ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os = RemoveOne(succ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alue = -NegaMax(pos, depth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value &gt; best) best = 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t AlphaBeta (pos, depth, alpha, bet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depth == 0) return Evaluate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est =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ucc = Successors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not Empty(succ) </a:t>
            </a:r>
            <a:r>
              <a:rPr b="0" lang="tr-TR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&amp;&amp; best &lt; beta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os = RemoveOne(succ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if (best &gt; alpha) alpha =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value = -AlphaBeta(pos, depth-1, -beta, -alpha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value &gt; best) best = 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86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t lisaks demo!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ocf.berkeley.edu/~yosenl/extras/alphabeta/alphabeta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91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ängupuud ja mängude programmeeri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juhatus viimasesse laboratoorsesse tööss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s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uppu rit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89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teerimise nõks otsingu kiirendamise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orteerida variandid seisust X enne otsingut ära: alustada tõenäoliselt paremate käikude proovimiseg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uurendab tohutult alpha-beta efek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das sorteeri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teratiivne süvenemine. Te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lgul täisotsingu sügavuseni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is uue täisotsingu sügavuseni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is uue täisotsingu sügavuseni 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... jne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ga kord kasutame eelmise otsingu tulemust sorteerimisek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96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uud standardnõksu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Killer mov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”: jätame otsides meelde eriti head käigu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ii masinal kui vasta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oovime kõigepealt varasemast meelde jäetud eriti häid kä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Quiescence search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”: mõnda haru otsitakse sügavam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bastabiilses seisus otsime sügavam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biilses seisus otsime vähem sügav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tsime lõpuni kõik vahetused ja löö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Null-Move</a:t>
            </a: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: mis siis, kui vastane saaks kaks käiku järjest?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oovime nii, et vastane saab kaks käiku järj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 on meile OK tulemus, siis see on positiivne f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 on meile halb tulemus, jätame meelde “killer m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201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mõjub?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Mida sügavam puu, seda suurem mõju. Näitek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äikude puu sügavus vi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hindab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41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4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lpha-Beta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hindab       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0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209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A-B + “killer moves”:         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530,587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seisu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äikude   puu sügavus seitse: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hindab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ca       8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000,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lpha-Beta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hindab       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16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568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A-B + “killer moves”:         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455,262 seisu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06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Täiendav idee: lõppmängude andmebaasid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Ide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ehitame hiiglasliku lõppmängu-seisude andmeba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gal lõppmängu-seisul on andmebaasis öeldud täpne “headus” (võit, viik, kao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ehitamiseks: kõigepealt ühe nupuga lõppmängud, siis kahe nupuga lõppmängud, siis kolme nupuga lõppmängud j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Kõigepealt tehti seda 8x8 inglise kabe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Chinook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Schaeffer, Robert Blak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Lu and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rtin Bryan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of Alberta: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cs.ualberta.ca/~chinook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Kõigi seisude andmebaas, ku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või vähem nup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Kokku ü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,778,882,769,2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Sügavad otsingud jõuavad tihti lõppmängu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andmebaasini, kus on juba sees täp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seisuhinna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Otsing seega mõlemast suunast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11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286000" cy="3143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419720" y="3352680"/>
            <a:ext cx="2057400" cy="45720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aegune seis mängudega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ahendatud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li nuppu ritta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 Qub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Nine Man’s Morris, Go-M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w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ugevalt üle inimmängijat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Kabe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(8x8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Renju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viis nuppu ritta)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Othello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Reversi)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 Scrab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le, Backga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ailmameistri tasemel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Rahvusvaheline kabe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(10x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ippmängija tasemel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Go (9x9),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Hiina male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Bridzh, Pok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matööri tasemel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Go (19x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t ka: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http://en.wikipedia.org/wiki/Solved_board_g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1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2895480" cy="1909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324160" cy="2390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553080" y="297180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19840" y="4295880"/>
            <a:ext cx="2324160" cy="22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iis nuppu rit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in a r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htversioon: Go-moku (lahendat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rukamaid versioone: Renju, Pente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t lisak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Gom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users.erols.com/msmammel/penteb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eb.archive.org/web/20040607185428/www.cs.vu.nl/~victor/thesi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! Lahendus peab baseeruma järgmisele koodi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ttp://www.leepoint.net/notes-java/45examples/55games/five/fiv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227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õtlemis-võistlusmängude programmeerim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Mis on ülesann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il on lauamäng (male, kabe vms), kus on kaks mängija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mbki tahab või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eme arvutiprogrammi, mis võtab seisu ette ja püüab leida võimalikult hea käigu sellest seisu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94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Veidi ajalug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eise maailmasõja paiku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lan Turing tegi valmis maleprogrammi, aga tal ei olnud arvutit selle täitmiseks. Turing täitis programmi ise: paberi ja pliiatsi 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ängis paar partiid: iga partii võttis hirmus kaua ae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940-1990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ogrammid läksid aeglaselt paremaks, arvutid kiiremaks, aga tipp-inim-mängijad olid programmidest kõvasti parem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990-2000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ogrammid hakkasid tipp-inim-mängijaid järjepanu võit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CHINOOK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– 1994, 8x8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glise kabe maailmam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Deep Blu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– 1997,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tis Garry Kasparovit malemats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LOGISTELL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– 1997,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tis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thello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eversi) maailmameistrit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keshi Murakami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raegune se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tmete mängude (Go, Bridzh, ...) jaoks on inim-mängijad endiselt programmidest hulga pare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99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maleprogrammi teh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eeme kõigepealt programmi, m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b se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eb seisu järgi mällu tabeli kõigist võimalikest käikudest selles sei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ee ei olegi nii väga keeruline 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les keerul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bes lih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thello (reversi) veel lih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iis nuppu ritta: väga lih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Nüüd võib programm tabelist juhusliku käigu vali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Ja juba mängibki!   Kuigi kehvasti 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04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programmi veidi paremaks teh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eeme eraldi väikese programmi, m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tab seisu 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Ütleb umbes, kui hea seis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isu “headus” on number, mille meie programm arvu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uidas öelda “kui hea”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hel lihtne: kaotus / võit/ ei kumb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umbrid:          1         -1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eerulisem: “harilik maleseis”.  Kumbalgi pole võitu ega kaot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09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eisu hindam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eerulisem olukord: harilik malese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aterj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me kokku meie ja vastase nup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ipp annab 10 punkti, vanker 6, 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ositsio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me kokku eelviimasel real etturid masinal/inim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me kokku tsentriväljadel olevad etturid masinal/inim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me kokku, mitmele tsentriväljale masin/inimene tuld an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atame üle kuninga kaitse tugev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... jne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kku saame seisu headuse numbr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sina materjal – inimese materjal + masina positsioon – inimese positsi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14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is edasi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Nüüd on meil kõigi käikude tabel, iga käigu juures arvutame tekkiva seisu headuse numbr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alime kõige parema tulemuse (maksimumi numbritest!) andva käig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rogramm hakkab veidi paremini mängima, ag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kka mängib väga kehva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ks? Sest meie seisu headuse hindamise programm on nig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das headuse hindamist parand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Loomulikult tuleks vaadata, mis käike vastane võib peale meie käike teha! Ja kuidas meie võime vastata. J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19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Võimalike käikude puu trips-traps-trulli näit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858000" cy="557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1-14T07:41:19Z</dcterms:modified>
  <cp:revision>268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